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29EE-068A-494D-8359-FAB19A08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2B3-CCA8-40E1-B21B-F986F841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397-1B56-4FD5-AB74-D4D716D9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FC88-4C18-4A03-9CDF-1067DC93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4BA-235C-4C74-A50B-9C9E5984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57BD-D3ED-4CB0-8A8F-D0E0497D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A70-6FF0-44D3-AA56-83B3BE29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62FC-BCCF-4E5C-A50D-715842FD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F5D-95FD-435A-9001-471FF9EE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74B-30F2-4063-ADF5-9C82AFC3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D50-D8F4-451B-9095-A5D9BF13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E97B-8433-4CC6-AFCE-A9799353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F53E-4FE0-4DD6-8C3C-4124B9C7A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Book Antiqua"/>
              </a:rPr>
              <a:t>CURSO GEOLOGÍA GENERAL</a:t>
            </a:r>
            <a:r>
              <a:rPr b="1" lang="es-ES_tradnl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br>
              <a:rPr sz="4400"/>
            </a:br>
            <a:r>
              <a:rPr b="1" lang="es-ES_tradnl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br>
              <a:rPr sz="4400"/>
            </a:b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                                     </a:t>
            </a:r>
            <a:r>
              <a:rPr b="1" lang="es-ES" sz="4400" spc="-1" strike="noStrike">
                <a:solidFill>
                  <a:srgbClr val="ffffff"/>
                </a:solidFill>
                <a:latin typeface="Book Antiqua"/>
              </a:rPr>
              <a:t>PROGRAMA</a:t>
            </a:r>
            <a:r>
              <a:rPr b="0" lang="es-ES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Book Antiqua"/>
              </a:rPr>
              <a:t>Primera Parte:</a:t>
            </a: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INTRODUCCIÓN AL 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La Geología como disciplina científica.  El Sistema Tier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Método Científico. Escala de observación geológica. El factor tiempo en los procesos geológicos.  Principio del Uniformitarian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Estructura Interna de  la Tierra:  Núcleo, Manto Astenósfera, Litósfera, Corteza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Capas Externas envolventes: Atmósfera, Biósfera, Hiodrósfe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Rasgos mayores de los Continentes y Océ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s geológicos de la Tierra. Materia y Energía. Noción de equilibrio en los procesos geológ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s Dinámicos de la Tierra: Sistema Hidrológico,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 Tectónico, Gravedad e Isosta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gunda Parte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MATERIALES,  ESTRUCTURAS  Y TIEMPO GEOLÓGIC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Los materiales de la corteza. Minerales y Rocas. Rocas Igneas,   Rocas Sedimentarias y  Rocas Metamórf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Estructuras y formas de los materiales. Registros de  la deformación de los materiales.  Fracturas: diaclasas y fallas. Pliegues. Discord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El Tiempo Geológico: Edad absoluta y edad relativa de las rocas.  Geocronología.  Criterios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para establecer  el orden cronológico de los procesos y eventos geológicos. Escala Geológica del Tiempo</a:t>
            </a: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Tercera Parte: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 LOS PROCESOS EXÓGENOS 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(geodinámica externa de la Tier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677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Atmósfera – Océano. Ciclo Hidr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Meteorización ( Intemperización) de los mater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Remociones en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fluvial. Transporte de los materiales hacia el océ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de Aguas Subterrá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Glaciar. El trabajo del Hi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de Costas. Evolución del litoral cost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Eólico. Evolución de los Desiertos</a:t>
            </a: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Cuarta Parte: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LOS PROCESOS ENDÓGENOS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(geodinámica  interna de la Tierr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micidad.  Interior de la Tierr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Paleomagnetism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Volcanismo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Tectónica de Placas. Teoría Unificadora de la evolución del Pla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Diver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Transcurr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Conver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Puntos Calientes (Hots Pots) y Plumas manté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iclo de vida de los Océ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Quinta Parte: 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EVOLUCIÓN DE LA CORT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ctónica y evolución del pais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uentes de Recursos Minerales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tros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20:56:51Z</dcterms:created>
  <dc:creator>Universidad de Chile</dc:creator>
  <dc:description/>
  <dc:language>en-US</dc:language>
  <cp:lastModifiedBy>Universidad de Chile</cp:lastModifiedBy>
  <dcterms:modified xsi:type="dcterms:W3CDTF">2001-04-11T22:02:47Z</dcterms:modified>
  <cp:revision>5</cp:revision>
  <dc:subject/>
  <dc:title>CURSO GEOLOGÍA GENERAL                                          PROGRAMA </dc:title>
</cp:coreProperties>
</file>